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0CF1-8E83-4C4D-B4ED-F8873DDC2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D154-BF46-43D9-9DCE-5FFAD8B25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2CD9-DE70-4EDE-9FE4-4CA8BAF46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F7EF-596E-4E7E-ADA8-0E4A8992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0AE3-6605-4532-8442-46ACEB68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FEDA-EE6C-4D53-8C7E-0AEEBB7A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6B2-6B0B-43CE-83F1-1752735C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BDC-1790-4FF4-A097-9898A163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986A-3350-47EE-9E82-4A3B3BBC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E10B-3C5F-4670-9B58-96BB0E51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7EB8-B4A6-4125-A16A-10423F24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BB5-FFD4-4CA5-8F9D-FBB82F8D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81E-9417-40A3-BD4F-0A535F5C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E09-C842-42CA-9260-51D6D7B2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703-95F8-489C-BDE9-407BC9D0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CFC6-FDF7-4926-95E0-80FF58D26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sf-dentlab.cz/vysledky-rekonstrukce.php" TargetMode="External"/><Relationship Id="rId2" Type="http://schemas.openxmlformats.org/officeDocument/2006/relationships/hyperlink" Target="http://www.fsf-dentlab.cz/vysledky-rekonstrukce.php" TargetMode="External"/><Relationship Id="rId3" Type="http://schemas.openxmlformats.org/officeDocument/2006/relationships/hyperlink" Target="http://www.fsf-dentlab.cz/vysledky-rekonstrukce.php" TargetMode="External"/><Relationship Id="rId4" Type="http://schemas.openxmlformats.org/officeDocument/2006/relationships/hyperlink" Target="http://www.fsf-dentlab.cz/vysledky-rekonstrukce.php" TargetMode="External"/><Relationship Id="rId5" Type="http://schemas.openxmlformats.org/officeDocument/2006/relationships/hyperlink" Target="http://www.fsf-dentlab.cz/vysledky-rekonstrukce.php" TargetMode="External"/><Relationship Id="rId6" Type="http://schemas.openxmlformats.org/officeDocument/2006/relationships/hyperlink" Target="http://www.fsf-dentlab.cz/vysledky-rekonstrukce.php" TargetMode="External"/><Relationship Id="rId7" Type="http://schemas.openxmlformats.org/officeDocument/2006/relationships/hyperlink" Target="http://www.fsf-dentlab.cz/vysledky-rekonstrukce.php" TargetMode="External"/><Relationship Id="rId8" Type="http://schemas.openxmlformats.org/officeDocument/2006/relationships/hyperlink" Target="http://www.fsf-dentlab.cz/vysledky-rekonstrukce.php" TargetMode="External"/><Relationship Id="rId9" Type="http://schemas.openxmlformats.org/officeDocument/2006/relationships/hyperlink" Target="http://dentalprotetik.kvalitne.cz/pages/Zasuvne%20spoje%20uvod.htm" TargetMode="External"/><Relationship Id="rId10" Type="http://schemas.openxmlformats.org/officeDocument/2006/relationships/hyperlink" Target="http://dentalprotetik.kvalitne.cz/pages/Zasuvne%20spoje%20uvod.htm" TargetMode="External"/><Relationship Id="rId11" Type="http://schemas.openxmlformats.org/officeDocument/2006/relationships/hyperlink" Target="http://dentalprotetik.kvalitne.cz/pages/Zasuvne%20spoje%20uvod.htm" TargetMode="External"/><Relationship Id="rId12" Type="http://schemas.openxmlformats.org/officeDocument/2006/relationships/hyperlink" Target="http://dentalprotetik.kvalitne.cz/pages/Zasuvne%20spoje%20uvod.htm" TargetMode="External"/><Relationship Id="rId13" Type="http://schemas.openxmlformats.org/officeDocument/2006/relationships/hyperlink" Target="http://dentalprotetik.kvalitne.cz/pages/Zasuvne%20spoje%20uvod.htm" TargetMode="External"/><Relationship Id="rId14" Type="http://schemas.openxmlformats.org/officeDocument/2006/relationships/hyperlink" Target="http://dentalprotetik.kvalitne.cz/pages/Zasuvne%20spoje%20uvod.htm" TargetMode="External"/><Relationship Id="rId15" Type="http://schemas.openxmlformats.org/officeDocument/2006/relationships/hyperlink" Target="http://dentalprotetik.kvalitne.cz/pages/Zasuvne%20spoje%20uvod.htm" TargetMode="External"/><Relationship Id="rId16" Type="http://schemas.openxmlformats.org/officeDocument/2006/relationships/hyperlink" Target="http://www.zubarplzen.cz/protetika-korunky-mustky" TargetMode="External"/><Relationship Id="rId17" Type="http://schemas.openxmlformats.org/officeDocument/2006/relationships/hyperlink" Target="http://www.zubarplzen.cz/protetika-korunky-mustky" TargetMode="External"/><Relationship Id="rId18" Type="http://schemas.openxmlformats.org/officeDocument/2006/relationships/hyperlink" Target="http://www.zubarplzen.cz/protetika-korunky-mustky" TargetMode="External"/><Relationship Id="rId19" Type="http://schemas.openxmlformats.org/officeDocument/2006/relationships/hyperlink" Target="http://www.zubarplzen.cz/protetika-korunky-mustky" TargetMode="External"/><Relationship Id="rId20" Type="http://schemas.openxmlformats.org/officeDocument/2006/relationships/hyperlink" Target="http://www.strelecdent.cz/zubni-nahrady/31" TargetMode="External"/><Relationship Id="rId21" Type="http://schemas.openxmlformats.org/officeDocument/2006/relationships/hyperlink" Target="http://www.strelecdent.cz/zubni-nahrady/31" TargetMode="External"/><Relationship Id="rId22" Type="http://schemas.openxmlformats.org/officeDocument/2006/relationships/hyperlink" Target="http://www.strelecdent.cz/zubni-nahrady/31" TargetMode="External"/><Relationship Id="rId23" Type="http://schemas.openxmlformats.org/officeDocument/2006/relationships/hyperlink" Target="http://www.strelecdent.cz/zubni-nahrady/31" TargetMode="External"/><Relationship Id="rId24" Type="http://schemas.openxmlformats.org/officeDocument/2006/relationships/hyperlink" Target="http://www.strelecdent.cz/zubni-nahrady/31" TargetMode="External"/><Relationship Id="rId25" Type="http://schemas.openxmlformats.org/officeDocument/2006/relationships/hyperlink" Target="http://www.strelecdent.cz/zubni-nahrady/31" TargetMode="External"/><Relationship Id="rId26" Type="http://schemas.openxmlformats.org/officeDocument/2006/relationships/hyperlink" Target="http://www.strelecdent.cz/zubni-nahrady/31" TargetMode="External"/><Relationship Id="rId27" Type="http://schemas.openxmlformats.org/officeDocument/2006/relationships/hyperlink" Target="http://www.koranek.cz/?p=kurzy" TargetMode="External"/><Relationship Id="rId28" Type="http://schemas.openxmlformats.org/officeDocument/2006/relationships/hyperlink" Target="http://www.koranek.cz/?p=kurzy" TargetMode="External"/><Relationship Id="rId29" Type="http://schemas.openxmlformats.org/officeDocument/2006/relationships/hyperlink" Target="http://www.koranek.cz/?p=kurzy" TargetMode="External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000" y="2133720"/>
            <a:ext cx="8218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ázev školy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řední zdravotnická škola a vyšší odborná škola zdravotnická Karlovy V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Číslo projektu: CZ.1.07/1.5.00/34.095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zdělávací materiál:  Zásuvné sp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Šablona III/2 Inovace a zkvalitnění výuky prostřednictvím 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ázev materiálu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Y_32_INOVACE_ZSP.4.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um tvorby: 4. 11.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yučovací předmět, ročník, obor: ZSP, 4. ročník, Asistent zubního techn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gr. Martina N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ace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Vzdělávací materiál využívá ICT při výuce a tím inovuje výuku praktického vyučování, zároveň motivuje a aktivuje žáky. Pomáhá žákovi pochopit indikaci zásuvných spojů, jejich složení a tvar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755640" y="277920"/>
            <a:ext cx="74898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85988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9646"/>
                </a:solidFill>
                <a:latin typeface="Calibri"/>
              </a:rPr>
              <a:t>Teleskopické korun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3672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C:\Users\Chalupna\Desktop\proteza_teleskop1.png"/>
          <p:cNvPicPr/>
          <p:nvPr/>
        </p:nvPicPr>
        <p:blipFill>
          <a:blip r:embed="rId1"/>
          <a:stretch/>
        </p:blipFill>
        <p:spPr>
          <a:xfrm>
            <a:off x="395280" y="981000"/>
            <a:ext cx="5689440" cy="5335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300720" y="1052640"/>
            <a:ext cx="2448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br. 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br. 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Chalupna\Desktop\fi_107cm.jpg"/>
          <p:cNvPicPr/>
          <p:nvPr/>
        </p:nvPicPr>
        <p:blipFill>
          <a:blip r:embed="rId2"/>
          <a:stretch/>
        </p:blipFill>
        <p:spPr>
          <a:xfrm>
            <a:off x="6443640" y="3357720"/>
            <a:ext cx="19209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Zdroje obrázků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br. 1,2: FSF Dentální laboratoř s.r.o. </a:t>
            </a:r>
            <a:r>
              <a:rPr b="0" i="1" lang="cs-CZ" sz="1200" spc="-1" strike="noStrike">
                <a:solidFill>
                  <a:srgbClr val="000000"/>
                </a:solidFill>
                <a:latin typeface="Calibri"/>
              </a:rPr>
              <a:t>Zásuvné spoje Ceka-Revax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[online]. [cit. 4.11.2013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tupné z www:&lt;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sf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-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dentlab.cz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vysledky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-rekonstrukce.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hp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gt;autor neuve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br. 3: Zásuvné spoje [online]. [cit. 4.11.2013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tupné z www:&lt;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dentalprotetik.kvalitne.cz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pages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/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Zasuvne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%20spoje%20uvod.htm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gt;autor neuve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br. 4,7: NERAD, J. </a:t>
            </a:r>
            <a:r>
              <a:rPr b="0" i="1" lang="cs-CZ" sz="1200" spc="-1" strike="noStrike">
                <a:solidFill>
                  <a:srgbClr val="000000"/>
                </a:solidFill>
                <a:latin typeface="Calibri"/>
              </a:rPr>
              <a:t>Částečné snímatelné náhrady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[online]. [cit. 4.11.2013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tupné z www:&lt;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zubarplzen.cz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/protetika-korunky-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mustky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br. 5: Zásuvný spoj, </a:t>
            </a:r>
            <a:r>
              <a:rPr b="0" i="1" lang="cs-CZ" sz="1200" spc="-1" strike="noStrike">
                <a:solidFill>
                  <a:srgbClr val="000000"/>
                </a:solidFill>
                <a:latin typeface="Calibri"/>
              </a:rPr>
              <a:t>Bredent - vario kugel snap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[online]. [cit. 4.11.2013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tupné z www:&lt;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://www.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strelecdent.cz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/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zubni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-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nahrady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/31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gt;autor neuve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br. 6,8: KOŘÁNEK M. – zubní laboratoř, kurzy 2010 [online]. [cit. 4.11.2013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tupné z www:&lt;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http://www.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koranek.cz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29"/>
              </a:rPr>
              <a:t>/?p=kurzy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br. 9: ProZuby.cz [online]. ©2007. [cit. 4.11.2013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tupné z www:&lt;http://www.prozuby.cz/cz/sluzby/protetika/snimatelne-nahrady/hybridni-nahrady/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uveden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0br. 10:Hybridní protézy [online]. [cit. 4.11.2013]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tupné z www:&lt; http://dentalprotetik.kvalitne.cz/pages/hybridni%20prot%20uvod.htm&gt;autor neuve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br. 11,12,13: ProZuby.cz [online]. ©2007. [cit. 4.11.2013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tupné z www:&lt;http://www.prozuby.cz/cz/sluzby/protetika/snimatelne-nahrady/hybridni-nahrady/ &gt; au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uve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br. 14 KUCHAROVICOVA, Z., zubní laboratoř [ online]. [cit. 4.11.2013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tupné z www:&lt; http://www.dentallabor.cz/fixy.htm 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br. 15: Komora zubních techniků [ online]. [cit. 4.11.2013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tupné z www:&lt; http://komorazt.cz/wp-content/uploads/2011/06/proteza_teleskop1.png 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OSTÁLOVÁ, T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Fixní a snímatelná protetika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1. vyd. Praha: Grada, 2004. ISBN 80-247-0655-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4360" y="1341360"/>
            <a:ext cx="7704000" cy="935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41000"/>
          </a:bodyPr>
          <a:p>
            <a:pPr marL="140400" indent="-1404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e46c0a"/>
                </a:solidFill>
                <a:latin typeface="Calibri"/>
              </a:rPr>
              <a:t>Zásuvné spoj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e46c0a"/>
                </a:solidFill>
                <a:latin typeface="Calibri"/>
              </a:rPr>
              <a:t>attachment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br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   </a:t>
            </a:r>
            <a:r>
              <a:rPr b="1" lang="en-US" sz="4400" spc="-1" strike="noStrike">
                <a:solidFill>
                  <a:srgbClr val="f79646"/>
                </a:solidFill>
                <a:latin typeface="Calibri"/>
              </a:rPr>
              <a:t>Zásuvné spoj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br.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ásuvné spoje patří mezi kotevní prvky jak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sponov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enční zaříz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sou esteticky dokonalejší než spony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br.1 a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áhrady jsou stabilnější a mají větší výkonnost při kous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yžadují opatření kotevních zubů korunkovou náhrad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sou vhodné tam, kde je stejně nutno kotevní zuby s oslabenou klinickou korunkou z profylaktických důvodů opatřit korunkou uměl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Chalupna\Desktop\thumb_vysledky-rekonstrukce_31.jpg"/>
          <p:cNvPicPr/>
          <p:nvPr/>
        </p:nvPicPr>
        <p:blipFill>
          <a:blip r:embed="rId1"/>
          <a:stretch/>
        </p:blipFill>
        <p:spPr>
          <a:xfrm>
            <a:off x="299880" y="260280"/>
            <a:ext cx="1679760" cy="126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Chalupna\Desktop\thumb_vysledky-rekonstrukce_32.jpg"/>
          <p:cNvPicPr/>
          <p:nvPr/>
        </p:nvPicPr>
        <p:blipFill>
          <a:blip r:embed="rId2"/>
          <a:stretch/>
        </p:blipFill>
        <p:spPr>
          <a:xfrm>
            <a:off x="6948360" y="189000"/>
            <a:ext cx="18241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beef4"/>
          </a:solidFill>
          <a:ln w="9360">
            <a:solidFill>
              <a:srgbClr val="b7de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646"/>
                </a:solidFill>
                <a:latin typeface="Calibri"/>
              </a:rPr>
              <a:t>Matrice a patr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rice (negativní část) – je připojena k zubu plášťovou korunk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rice (pozitivní část) – protézní je připojena spojovacím prvkem k tělu protéz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vary patrice: kuličky, válečky, stiskací knoflíky. Jsou jednoduché nebo složen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57080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9646"/>
                </a:solidFill>
                <a:latin typeface="Calibri"/>
              </a:rPr>
              <a:t>Zásuvné spoje tvaru kulič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C:\Users\Chalupna\Desktop\zub_40.jpg"/>
          <p:cNvPicPr/>
          <p:nvPr/>
        </p:nvPicPr>
        <p:blipFill>
          <a:blip r:embed="rId1"/>
          <a:stretch/>
        </p:blipFill>
        <p:spPr>
          <a:xfrm>
            <a:off x="5580000" y="692280"/>
            <a:ext cx="2160720" cy="1780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681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r. 3: Patrice ukotvená na fixní náhradě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r. 4: Patrice připevněna na fixní náhradu, matrice je skryta vně snímatelné náhra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r. 5: Názorné znázornění matrice a patr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Chalupna\Desktop\image006.jpg"/>
          <p:cNvPicPr/>
          <p:nvPr/>
        </p:nvPicPr>
        <p:blipFill>
          <a:blip r:embed="rId2"/>
          <a:stretch/>
        </p:blipFill>
        <p:spPr>
          <a:xfrm>
            <a:off x="5364000" y="4437000"/>
            <a:ext cx="3144960" cy="194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Chalupna\Desktop\pro_snim-attache-2.jpg"/>
          <p:cNvPicPr/>
          <p:nvPr/>
        </p:nvPicPr>
        <p:blipFill>
          <a:blip r:embed="rId3"/>
          <a:stretch/>
        </p:blipFill>
        <p:spPr>
          <a:xfrm>
            <a:off x="5508720" y="2708280"/>
            <a:ext cx="230508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9646"/>
                </a:solidFill>
                <a:latin typeface="Calibri"/>
              </a:rPr>
              <a:t>Zásuvné spoje tvaru váleč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Chalupna\Desktop\pro_snim-attache.jpg"/>
          <p:cNvPicPr/>
          <p:nvPr/>
        </p:nvPicPr>
        <p:blipFill>
          <a:blip r:embed="rId1"/>
          <a:stretch/>
        </p:blipFill>
        <p:spPr>
          <a:xfrm>
            <a:off x="5651640" y="2781360"/>
            <a:ext cx="2930400" cy="1871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Chalupna\Pictures\zasuvny_spoj_Vario-Soft_3.jpg"/>
          <p:cNvPicPr/>
          <p:nvPr/>
        </p:nvPicPr>
        <p:blipFill>
          <a:blip r:embed="rId2"/>
          <a:stretch/>
        </p:blipFill>
        <p:spPr>
          <a:xfrm>
            <a:off x="5651640" y="692280"/>
            <a:ext cx="2793960" cy="194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250560" y="1125000"/>
            <a:ext cx="5113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. 6:  Připevnění zásuvného spoje Acrylo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. 7:  Hotová fixní i snímatelná část náhr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. 8:  Tvary zásuvného spoje Acrylo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C:\Users\Chalupna\Pictures\acrylock_1.jpg"/>
          <p:cNvPicPr/>
          <p:nvPr/>
        </p:nvPicPr>
        <p:blipFill>
          <a:blip r:embed="rId3"/>
          <a:stretch/>
        </p:blipFill>
        <p:spPr>
          <a:xfrm>
            <a:off x="5651640" y="4941720"/>
            <a:ext cx="295272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9646"/>
                </a:solidFill>
                <a:latin typeface="Calibri"/>
              </a:rPr>
              <a:t>Celková náhrada kotvená zásuvnými spo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052280"/>
            <a:ext cx="4330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r. 9: Připravené,vyčištěn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řenové kanály pr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kotvení celkové náhrad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mocí zásuvných spoj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r. 10: Kombin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řenové nástavb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kuličkovým zásuvný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jem a totální náhra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Users\Chalupna\Pictures\slide0011_image023.jpg"/>
          <p:cNvPicPr/>
          <p:nvPr/>
        </p:nvPicPr>
        <p:blipFill>
          <a:blip r:embed="rId1"/>
          <a:stretch/>
        </p:blipFill>
        <p:spPr>
          <a:xfrm>
            <a:off x="5076720" y="3789360"/>
            <a:ext cx="3594240" cy="270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Chalupna\Pictures\hybridni%201.jpg"/>
          <p:cNvPicPr/>
          <p:nvPr/>
        </p:nvPicPr>
        <p:blipFill>
          <a:blip r:embed="rId2"/>
          <a:stretch/>
        </p:blipFill>
        <p:spPr>
          <a:xfrm>
            <a:off x="5003640" y="1197000"/>
            <a:ext cx="34560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90680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Calibri"/>
              </a:rPr>
              <a:t>Kotevní třme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186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r. 11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r. 12: Kotevní třmen -pat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r. 13:  Hybridní náhrada kotvena na zbývající zuby zásuvnými spo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Chalupna\Pictures\hybridni3.jpg"/>
          <p:cNvPicPr/>
          <p:nvPr/>
        </p:nvPicPr>
        <p:blipFill>
          <a:blip r:embed="rId1"/>
          <a:stretch/>
        </p:blipFill>
        <p:spPr>
          <a:xfrm>
            <a:off x="5364000" y="4437000"/>
            <a:ext cx="2632320" cy="22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Chalupna\Pictures\hybridni%201.jpg"/>
          <p:cNvPicPr/>
          <p:nvPr/>
        </p:nvPicPr>
        <p:blipFill>
          <a:blip r:embed="rId2"/>
          <a:stretch/>
        </p:blipFill>
        <p:spPr>
          <a:xfrm>
            <a:off x="5003640" y="404640"/>
            <a:ext cx="2818080" cy="187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Chalupna\Pictures\hybridni2.jpg"/>
          <p:cNvPicPr/>
          <p:nvPr/>
        </p:nvPicPr>
        <p:blipFill>
          <a:blip r:embed="rId3"/>
          <a:stretch/>
        </p:blipFill>
        <p:spPr>
          <a:xfrm>
            <a:off x="5076720" y="2565360"/>
            <a:ext cx="2808360" cy="1768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646"/>
                </a:solidFill>
                <a:latin typeface="Calibri"/>
              </a:rPr>
              <a:t>Teleskopické kotv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že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imární dí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je pevně začleněn d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bývajícího chrupu buď jako vnitřní korunk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bo jako primární část zásuvného spoje 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tevní koru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2. Sekundární dí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je ve snímatelné náhradě, j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ď o teleskopickou korunku nebo o sekundár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část zásuvného spo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8T10:46:23Z</dcterms:created>
  <dc:creator>Hana Chalupná</dc:creator>
  <dc:description/>
  <dc:language>en-US</dc:language>
  <cp:lastModifiedBy>Chalupna</cp:lastModifiedBy>
  <dcterms:modified xsi:type="dcterms:W3CDTF">2013-12-07T19:21:00Z</dcterms:modified>
  <cp:revision>96</cp:revision>
  <dc:subject/>
  <dc:title>Snímek 1</dc:title>
</cp:coreProperties>
</file>